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wmf" ContentType="image/x-wmf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6.jpeg" ContentType="image/jpeg"/>
  <Override PartName="/ppt/media/image7.gif" ContentType="image/gi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6D8B-238B-4BB3-A619-1FDEEC6A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E702-190E-4AC7-87F6-5B20E335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2718-FBC9-4486-8CF3-D4422AE6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CB40-9C3C-42F7-8E71-EF114781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9001-4E3C-4470-961A-E17AAC2F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AD5C-9AAC-499B-BF61-17999367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5C12-5A7E-472B-ABE6-FDE48728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991D-8055-466A-B597-8D904A12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A06C-AE0A-48A5-9BAD-B22816BC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A2FE-799A-42DB-B79E-F3534E5B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0C3C-EC11-4E80-9A4E-B017BEB1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B78B-C59B-4B52-8528-95EF5CFD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7019-AC6B-406A-BA6E-998B4F94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1E7D-0007-49FB-9FC9-4E9E92D7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29FC-D355-441A-86E9-D4EA46AB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34A5-C81A-4C11-B903-AE53BCC9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9A94-23A2-40E8-AA57-AEE5288D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CDBC-B498-450E-8C18-87106AA9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02F1-07BD-4FF9-AE7A-4E98BD94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32E2-7134-4C7C-BAA3-5EEBBAB6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38D-9568-4125-AB03-D7FE6E03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C42-706D-4172-BDFD-4BB6BC8A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E101-F2BC-42EB-9934-386B44B1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973-4B89-41B2-97E8-3569C968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505320" y="0"/>
            <a:ext cx="5638680" cy="813960"/>
            <a:chOff x="3505320" y="0"/>
            <a:chExt cx="5638680" cy="813960"/>
          </a:xfrm>
        </p:grpSpPr>
        <p:grpSp>
          <p:nvGrpSpPr>
            <p:cNvPr id="1" name=""/>
            <p:cNvGrpSpPr/>
            <p:nvPr/>
          </p:nvGrpSpPr>
          <p:grpSpPr>
            <a:xfrm>
              <a:off x="3505320" y="0"/>
              <a:ext cx="5638320" cy="47880"/>
              <a:chOff x="3505320" y="0"/>
              <a:chExt cx="5638320" cy="47880"/>
            </a:xfrm>
          </p:grpSpPr>
          <p:sp>
            <p:nvSpPr>
              <p:cNvPr id="2" name=""/>
              <p:cNvSpPr/>
              <p:nvPr/>
            </p:nvSpPr>
            <p:spPr>
              <a:xfrm>
                <a:off x="6546240" y="0"/>
                <a:ext cx="2597400" cy="47880"/>
              </a:xfrm>
              <a:prstGeom prst="rect">
                <a:avLst/>
              </a:prstGeom>
              <a:gradFill rotWithShape="0">
                <a:gsLst>
                  <a:gs pos="0">
                    <a:srgbClr val="6702fc"/>
                  </a:gs>
                  <a:gs pos="100000">
                    <a:srgbClr val="1d92f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505320" y="0"/>
                <a:ext cx="3040920" cy="47880"/>
              </a:xfrm>
              <a:prstGeom prst="rect">
                <a:avLst/>
              </a:prstGeom>
              <a:gradFill rotWithShape="0">
                <a:gsLst>
                  <a:gs pos="0">
                    <a:srgbClr val="1d92fd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" name=""/>
            <p:cNvSpPr/>
            <p:nvPr/>
          </p:nvSpPr>
          <p:spPr>
            <a:xfrm>
              <a:off x="7187760" y="95400"/>
              <a:ext cx="195588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898880" y="95400"/>
              <a:ext cx="22888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88320" y="191520"/>
              <a:ext cx="125532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19520" y="191520"/>
              <a:ext cx="146880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68480" y="287280"/>
              <a:ext cx="8751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243200" y="287280"/>
              <a:ext cx="10252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18400" y="383040"/>
              <a:ext cx="52524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003520" y="383040"/>
              <a:ext cx="6148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52040" y="479160"/>
              <a:ext cx="29160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10040" y="479160"/>
              <a:ext cx="34164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97480" y="574920"/>
              <a:ext cx="1461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827200" y="574920"/>
              <a:ext cx="1702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56880" y="670680"/>
              <a:ext cx="867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953920" y="670680"/>
              <a:ext cx="10296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837840" y="47880"/>
              <a:ext cx="230580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138560" y="47880"/>
              <a:ext cx="269928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7080" y="143640"/>
              <a:ext cx="154692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785920" y="143640"/>
              <a:ext cx="181080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093160" y="239400"/>
              <a:ext cx="105048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863040" y="239400"/>
              <a:ext cx="123012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502480" y="335160"/>
              <a:ext cx="64116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750080" y="335160"/>
              <a:ext cx="75240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734680" y="430920"/>
              <a:ext cx="4089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256960" y="430920"/>
              <a:ext cx="47772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939160" y="526680"/>
              <a:ext cx="20448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700120" y="526680"/>
              <a:ext cx="2386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9027720" y="622800"/>
              <a:ext cx="11592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890200" y="622800"/>
              <a:ext cx="13716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9085680" y="718560"/>
              <a:ext cx="579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9017280" y="718560"/>
              <a:ext cx="6840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9114840" y="766440"/>
              <a:ext cx="2880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080280" y="766440"/>
              <a:ext cx="3420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" name=""/>
          <p:cNvSpPr/>
          <p:nvPr/>
        </p:nvSpPr>
        <p:spPr>
          <a:xfrm>
            <a:off x="-4114800" y="1371600"/>
            <a:ext cx="8229240" cy="531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12" y="0"/>
                </a:moveTo>
                <a:arcTo wR="10800" hR="10800" stAng="-5396203" swAng="10787241"/>
                <a:lnTo>
                  <a:pt x="10800" y="10800"/>
                </a:lnTo>
                <a:close/>
              </a:path>
              <a:path fill="none" w="21600" h="21600">
                <a:moveTo>
                  <a:pt x="10812" y="0"/>
                </a:moveTo>
                <a:arcTo wR="10800" hR="10800" stAng="-5396203" swAng="10787241"/>
              </a:path>
            </a:pathLst>
          </a:custGeom>
          <a:gradFill rotWithShape="0">
            <a:gsLst>
              <a:gs pos="0">
                <a:srgbClr val="1d92f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52A6-4829-4ACC-89E9-5DE9FEEACC5A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7794720" y="2590920"/>
            <a:ext cx="15544440" cy="83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12" y="0"/>
                </a:moveTo>
                <a:arcTo wR="10800" hR="10800" stAng="-5396203" swAng="10787241"/>
                <a:lnTo>
                  <a:pt x="10800" y="10800"/>
                </a:lnTo>
                <a:close/>
              </a:path>
              <a:path fill="none" w="21600" h="21600">
                <a:moveTo>
                  <a:pt x="10812" y="0"/>
                </a:moveTo>
                <a:arcTo wR="10800" hR="10800" stAng="-5396203" swAng="10787241"/>
              </a:path>
            </a:pathLst>
          </a:custGeom>
          <a:gradFill rotWithShape="0">
            <a:gsLst>
              <a:gs pos="0">
                <a:srgbClr val="1d92f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613B-E02D-4340-9C47-82768CC9B8FC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Micro-organism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pposite of bi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ShockwaveFlash1"/>
          <p:cNvGraphicFramePr/>
          <p:nvPr/>
        </p:nvGraphicFramePr>
        <p:xfrm>
          <a:off x="1676520" y="1371600"/>
          <a:ext cx="58672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371600"/>
                    <a:ext cx="5867280" cy="47242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Micro-organism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Micro-organism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graphicFrame>
        <p:nvGraphicFramePr>
          <p:cNvPr id="156" name="ShockwaveFlash1"/>
          <p:cNvGraphicFramePr/>
          <p:nvPr/>
        </p:nvGraphicFramePr>
        <p:xfrm>
          <a:off x="1676520" y="1447920"/>
          <a:ext cx="5867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447920"/>
                    <a:ext cx="5867280" cy="4572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Micro-organism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nimal, plant, and fungus species are composed of many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ell is the smallest living unit of an org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3352680" cy="333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8080" y="3963960"/>
            <a:ext cx="3098880" cy="289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3917880" cy="3917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Micro-organism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are made of ab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000 000 000 000  cells.  (5 trillion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micro-organisms are composed of only one c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of this, they are extremely small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Micro-organism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ro-organisms can’t be seen with the naked ey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croscop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a microscope is needed to view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86400" y="3962520"/>
            <a:ext cx="2421000" cy="2438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90720" y="4054320"/>
            <a:ext cx="3504960" cy="260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Micro-organisms 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ro-organisms are everyw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germs, bacteria, mold spores, plankton, viruses, and other uni-cellular organis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3520" y="4119480"/>
            <a:ext cx="4190760" cy="2738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2171880" cy="289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Micro-organism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962520" cy="3840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191120" y="2209680"/>
            <a:ext cx="4762440" cy="401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Micro-organism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216320" cy="2934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857760" cy="2916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800600" y="3352680"/>
            <a:ext cx="3495600" cy="304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Micro-organism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267080" y="228600"/>
            <a:ext cx="3981600" cy="2986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572000" y="3276720"/>
            <a:ext cx="4038480" cy="3425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380880" y="3886200"/>
            <a:ext cx="3810240" cy="272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Micro-organism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graphicFrame>
        <p:nvGraphicFramePr>
          <p:cNvPr id="150" name="ShockwaveFlash1"/>
          <p:cNvGraphicFramePr/>
          <p:nvPr/>
        </p:nvGraphicFramePr>
        <p:xfrm>
          <a:off x="1905120" y="1447920"/>
          <a:ext cx="57909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447920"/>
                    <a:ext cx="5790960" cy="44956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8:17:01Z</dcterms:created>
  <dc:creator>Teacher</dc:creator>
  <dc:description/>
  <cp:keywords/>
  <dc:language>en-US</dc:language>
  <cp:lastModifiedBy>nbdoe</cp:lastModifiedBy>
  <dcterms:modified xsi:type="dcterms:W3CDTF">2007-10-17T10:36:35Z</dcterms:modified>
  <cp:revision>13</cp:revision>
  <dc:subject/>
  <dc:title>Micro-organis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291033</vt:lpwstr>
  </property>
</Properties>
</file>